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B538C-0180-4DFE-9962-95FB12A53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6A66A-CCEF-48EC-9CCA-BC2637F78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33267-D607-4ABB-B567-733014AFA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201C9-B669-4250-A438-033C18B49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E8611E4-B098-4CB1-B18F-082632CBF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34EA6FC-D197-4E92-B428-7527FECFB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316256-7C64-4647-B713-64A7E0EFC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682E887-BE82-4490-A62D-8071ABD33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F184AE2-931B-4543-B836-3D6874AF7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517E621-6AFF-4A0C-A917-D8DA64EC5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AF3B4C-AB3B-4AFB-A17F-3280E9183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825E8-59F7-4803-88DE-1D78EDD13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0F6038-AF70-4FD5-810F-7E4810574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5DE810-325C-401F-B881-09F31B6D5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4F6C37E-74E4-4E25-86A0-59D5C0ED6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40670B0-0898-4274-B510-FFD8600A1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E5CA327-0448-4618-AB98-C6D5BDAC6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783D2-82FB-41D9-BBE0-F11A3946E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E2C9D-119E-49AF-9D29-F19E37919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F8A1A-469C-4DAB-BE5B-D7AF648DB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E7AE2-E773-491B-A917-D217C2A57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8EE80-F0EF-463B-A241-90B58BE6F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E4D53-61B3-499A-9EC0-932C7ABC0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44096-002C-4312-92AD-A1287D0BF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9FB9-FD41-43B2-9F95-1AB3E78869F3}"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5818-4871-474A-BE21-5FBA1F845166}"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ПСИХОЛОГО-ПЕДАГОГИЧЕСКАЯ ХАРАКТЕРИСТИКА ДЕТЕЙ</a:t>
            </a:r>
            <a:br>
              <a:rPr sz="4800"/>
            </a:br>
            <a:r>
              <a:rPr b="0" lang="en-US" sz="4800" spc="-1" strike="noStrike">
                <a:solidFill>
                  <a:srgbClr val="e3e3ff"/>
                </a:solidFill>
                <a:latin typeface="Arial"/>
              </a:rPr>
              <a:t>СНАРУШЕНИЕМ ЗРЕНИЯ</a:t>
            </a:r>
            <a:br>
              <a:rPr sz="4800"/>
            </a:br>
            <a:endParaRPr b="0" lang="en-US" sz="48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324000" y="361800"/>
            <a:ext cx="806436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луховые ощущения слепы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сследования (Гризбах, Купц, Л.Р. Рубина, М.И. Земцовой и др.) показали необоснованность утверждений об «изощренности» слуха слепы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екоторые изменения слуховой чувствительности при глубоких нарушениях зрения появляются не как результат потери зрения, а как следствие более активного участия слухового анализатора в деятельности при изменившихся условиях жизн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луховая чувствительность при слепоте изменяется, как и в норме, в результате выработки новых условноефлекторных связей. Ощущения громкости, высоты и тембра звука у слепых не имеют никаких принципиальных отличий от нормы. Слуховая чувствительность слепых может дост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гать, как и у зрячих, очень высокого уровня развит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395280" y="333360"/>
            <a:ext cx="842472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жные ощущения слепых</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кольку осязание имеет существенное значение для деятельности слепых, необходимо помнить, что пороги кожной чувствительности подвержены серьезным колебаниям под влиянием окружающих условий. Одним из факторов, наиболее сильно действующих на остроту осязания, является утомлени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нижается острота осязания также под воздействием сильных темп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турных и механических раздражителей, вызывающих болевые ощущ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ия. Кроме того, у слепых наблюдается повышенная способность дифф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нцировать термальные и болевые раздражител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мпературная чувствительность довольно широко используется слеп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и при ориентации в окружающем пространстве, в быту, реже в познавательной деятельности. Благодаря температурной чувствительности кожных покровов лица и рук слепые по теплоотдаче предмета могут судить о его местоположении, по теплопроводности – различать материалы, локализуя источник тепла – определять уровень жидкости в сосуде, положение солнца и т.п.</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179280" y="333360"/>
            <a:ext cx="8640720" cy="640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собенности развития восприятия и его механизм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 нарушениях функций зр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рушения функций зрения приводят к </a:t>
            </a:r>
            <a:r>
              <a:rPr b="0" i="1" lang="ru-RU" sz="2400" spc="-1" strike="noStrike">
                <a:solidFill>
                  <a:srgbClr val="ffffff"/>
                </a:solidFill>
                <a:latin typeface="Times New Roman"/>
              </a:rPr>
              <a:t>сокращению и редуцированию (ослаблению) зрительных ощущений </a:t>
            </a:r>
            <a:r>
              <a:rPr b="0" lang="ru-RU" sz="2400" spc="-1" strike="noStrike">
                <a:solidFill>
                  <a:srgbClr val="ffffff"/>
                </a:solidFill>
                <a:latin typeface="Times New Roman"/>
              </a:rPr>
              <a:t>у частичнозрячих и слабовидящих или полному их выпадению у тотально слепы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и слепоте и слабовидении наблюдается </a:t>
            </a:r>
            <a:r>
              <a:rPr b="0" i="1" lang="ru-RU" sz="2400" spc="-1" strike="noStrike">
                <a:solidFill>
                  <a:srgbClr val="ffffff"/>
                </a:solidFill>
                <a:latin typeface="Times New Roman"/>
              </a:rPr>
              <a:t>редуцирование </a:t>
            </a:r>
            <a:r>
              <a:rPr b="0" lang="ru-RU" sz="2400" spc="-1" strike="noStrike">
                <a:solidFill>
                  <a:srgbClr val="ffffff"/>
                </a:solidFill>
                <a:latin typeface="Times New Roman"/>
              </a:rPr>
              <a:t>проявления некоторых </a:t>
            </a:r>
            <a:r>
              <a:rPr b="0" i="1" lang="ru-RU" sz="2400" spc="-1" strike="noStrike">
                <a:solidFill>
                  <a:srgbClr val="ffffff"/>
                </a:solidFill>
                <a:latin typeface="Times New Roman"/>
              </a:rPr>
              <a:t>свойств восприятия</a:t>
            </a:r>
            <a:r>
              <a:rPr b="0" lang="ru-RU"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збирательность восприятия ограничивается узким кругом интересов, снижением активности отражательной деятельности, меньшим, по сравнению с нормой, эмоциональным воздействием внешнего мир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пперцепция проявляется слабее, чем в норме, в связи с недостаточным чувственным опыто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смысленность и обобщенность затрудняются как недостаточным чувственным опытом, так и снижением полноты и точности отображаемого</a:t>
            </a:r>
            <a:r>
              <a:rPr b="0" lang="ru-RU"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179280" y="333360"/>
            <a:ext cx="87138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Особенности зрительного восприятия лиц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 нарушениями зрени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У детей с нарушениями зрения формируются обедненные, часто деформированные и неустойчивые зрительные образы. Нарушение зрения накладывает отпечаток на протекание всего процесса формирования образ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Для зрительного восприятия, как и для восприятия любой модальности, свойственна избирательность, т.е. выделение тех объектов, которые находятся в сфере интересов, деятельности и внимания ребенка. При остаточном зрении и слабовидении, когда зрительные стимулы неточно отражаются нарушенной зрительной системой, ослабляется интерес к окружающему, снижается общая активность и, как результат, избирательность восприят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324000" y="500040"/>
            <a:ext cx="8424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2. Предметность – основной результат процесса восприятия, ее уровень определяет, насколько целостно и осмысленно воспринят объект, отражена ли в восприятии его структура. Ограниченность информации, получаемой частично видящими и слабовидящими, обусловливает появление такой особенности их восприятия, как схематизм зрительного образа, его обедненност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3. Нарушается целостность восприятия объекта, в образе объекта часто отсутствуют не только второстепенные, но и определяющие детали, что ведет к фрагментарности и неточности отражения окружающего. Нарушение целостности определяет трудности формирования структуры образ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ерархии признаков объект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55640" y="476280"/>
            <a:ext cx="7416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Для нормального функционирования зрительного восприятия характерна константность, т.е. способность узнавать объект вне зависимости от его положения, расстояния от глаз, освещенности, т.е. от условий восприятия. Для слабовидящих и частично видящих зона константного восприятия сужается в зависимости от степени поражения зрен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 Важным свойством восприятия является способность абстрагироваться от случайных, несущественных признаков объекта, выделять его существенные качества. Это свойство обобщения выступает в единстве с мыслительными операциями анализа, синтеза, сравнения. Трудности выдел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ия существенных качеств, отсутствие целостности образа, его фрагментарность и неполнота определяют низкий уровень обобщенности образов при глубоких нарушениях зре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468360" y="260280"/>
            <a:ext cx="7775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6. При слабовидении и слепоте с остаточным зрением страдает также скорость и правильность зрительного восприятия, что непосредственно связано со снижением остроты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7. Нарушения бинокулярного зрения приводят к пространственной слепоте, нарушению восприятия перспективы и глубины пространства, при этом образы восприятия искажаются и неадекватны действительност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8. При слабовидении изменяется процесс образования образа, нарушается симультанность опознания признаков формы, размера и цвета. Эти особенности более выражены при органических нарушениях зрительного анализато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395280" y="333360"/>
            <a:ext cx="7993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9. В условиях зрительной депривации наблюдаются также большая ст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нь несформированности антиципации, низкий уровень выделения пр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наков объектов и их интеграци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0. Изменяется характер восприятия и качественная же характеристик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цесса опознания, а именно нарушение симультанности отражения, переход на сукцессивный способ восприят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зультаты исследования образов восприятия и различения таких качеств объектов, как цвет, форма, размер, показали зависимость их адекватного восприятия от условий восприятия и качеств самих объектов. Одним из основных условий выступает необходимость активизации познавательных процессов, участвующих в акте сенсорного отражения, на чем и строится теория компенсации. Формирование образа требует специально организованной деятельности, включающей развитие процессов анализа, иде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ификации, синтеза, процессов интеграционной деятельности с использованием речи, т.е. механизмов компенсации, свойственных слепот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84360" y="333360"/>
            <a:ext cx="755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Основные особенности образов памят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слепых и слабовидящих</a:t>
            </a:r>
            <a:endParaRPr b="0" lang="en-US" sz="2400" spc="-1" strike="noStrike">
              <a:solidFill>
                <a:srgbClr val="ffffff"/>
              </a:solidFill>
              <a:latin typeface="Arial"/>
            </a:endParaRPr>
          </a:p>
        </p:txBody>
      </p:sp>
      <p:sp>
        <p:nvSpPr>
          <p:cNvPr id="142" name=""/>
          <p:cNvSpPr/>
          <p:nvPr/>
        </p:nvSpPr>
        <p:spPr>
          <a:xfrm>
            <a:off x="395280" y="1268280"/>
            <a:ext cx="8353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Неадекватность образов </a:t>
            </a:r>
            <a:r>
              <a:rPr b="0" lang="ru-RU" sz="2400" spc="-1" strike="noStrike">
                <a:solidFill>
                  <a:srgbClr val="ffffff"/>
                </a:solidFill>
                <a:latin typeface="Times New Roman"/>
              </a:rPr>
              <a:t>отчетливо проявляется при повторном восприятии объектов в процессе узнавания. В основе фрагментарности образов слепых и слабовидящих лежит сукцессивность, последовательност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сязательного или дефектного зрительного восприят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укцессивность и фрагментарность восприятия в значительной мере преодолеваются благодаря работе мышления, а также развитию навыков осязательного и зрительного обследования объектов. Возможна также фрагментарность представлений и при симультанном зрительном восприятии как следствие тяжелых поражений зрительного анализато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468360" y="193680"/>
            <a:ext cx="792144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Схематизм</a:t>
            </a:r>
            <a:r>
              <a:rPr b="0" lang="ru-RU" sz="2400" spc="-1" strike="noStrike">
                <a:solidFill>
                  <a:srgbClr val="ffffff"/>
                </a:solidFill>
                <a:latin typeface="Times New Roman"/>
              </a:rPr>
              <a:t>, как и фрагментарность, возникает в результате недостаточно полного осязательного или зрительного отражения. Схематизм особенно отчетливо проявляется при репродуцировании образов, бедных деталями и поэтому слабо дифференцированных. Наиболее же характерные признаки: форма, величина и др.– остаются в тени, в результате чего образ памяти формируется как голая схема того или иного объекта. Однако, направляя и организовывая процесс восприятия у детей с дефектами зрения, развивая наблюдательность, формируя навыки обследования, можно преодолеть схематизм их представлений и тем самым способствовать более полному и точному отражению объективной действительност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перечисленными особенностями представлений при сужении сферы чувственного познания тесно связана и </a:t>
            </a:r>
            <a:r>
              <a:rPr b="0" i="1" lang="ru-RU" sz="2400" spc="-1" strike="noStrike">
                <a:solidFill>
                  <a:srgbClr val="ffffff"/>
                </a:solidFill>
                <a:latin typeface="Times New Roman"/>
              </a:rPr>
              <a:t>недостаточная бобщенность образов памяти </a:t>
            </a:r>
            <a:r>
              <a:rPr b="0" lang="ru-RU" sz="2400" spc="-1" strike="noStrike">
                <a:solidFill>
                  <a:srgbClr val="ffffff"/>
                </a:solidFill>
                <a:latin typeface="Times New Roman"/>
              </a:rPr>
              <a:t>слепых и слабовидящи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116000" y="193680"/>
            <a:ext cx="748836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К лицам с нарушениями зрения относятс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Слепые с полным отсутствием зрения и дети с остаточным зрением, при котором его острота равна 0,04 и ниже на лучше видящем глазу с применением очк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latino Linotype"/>
              </a:rPr>
              <a:t>Слепота</a:t>
            </a:r>
            <a:r>
              <a:rPr b="0" i="1" lang="en-US" sz="2400" spc="-1" strike="noStrike">
                <a:solidFill>
                  <a:srgbClr val="ffffff"/>
                </a:solidFill>
                <a:latin typeface="Palatino Linotype"/>
              </a:rPr>
              <a:t> </a:t>
            </a:r>
            <a:r>
              <a:rPr b="0" lang="en-US" sz="2400" spc="-1" strike="noStrike">
                <a:solidFill>
                  <a:srgbClr val="ffffff"/>
                </a:solidFill>
                <a:latin typeface="Palatino Linotype"/>
              </a:rPr>
              <a:t>– снижение зрения, при котором невозможно или очень ограничено зрительное восприятие окружающего мира из-за глубокого нарушения остроты центрального зрения или сужения поля зрения при бол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шей остроте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Слабовидящие со снижением зрения от 0,05 до 0,2 на лучше видящем глазу с очковой коррекцией.</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latino Linotype"/>
              </a:rPr>
              <a:t>Слабовидение </a:t>
            </a:r>
            <a:r>
              <a:rPr b="0" lang="en-US" sz="2400" spc="-1" strike="noStrike">
                <a:solidFill>
                  <a:srgbClr val="ffffff"/>
                </a:solidFill>
                <a:latin typeface="Palatino Linotype"/>
              </a:rPr>
              <a:t>– это значительное снижение остроты зрения, при котором центральное зрение на лучше видящем глазу находится в пределах 0,05–0,2 при использовании оптической коррекци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395280" y="476280"/>
            <a:ext cx="8353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 невозможностью осязательно или зрительно воспринимать те ил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ные объекты в целом или их отдельные свойства связана и такая харак-</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рная особенность представлений слепых и слабовидящих, как </a:t>
            </a:r>
            <a:r>
              <a:rPr b="0" i="1" lang="ru-RU" sz="1800" spc="-1" strike="noStrike">
                <a:solidFill>
                  <a:srgbClr val="ffffff"/>
                </a:solidFill>
                <a:latin typeface="Arial"/>
              </a:rPr>
              <a:t>вербализм</a:t>
            </a:r>
            <a:r>
              <a:rPr b="0" lang="ru-RU"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Вербализм </a:t>
            </a:r>
            <a:r>
              <a:rPr b="0" lang="ru-RU" sz="1800" spc="-1" strike="noStrike">
                <a:solidFill>
                  <a:srgbClr val="ffffff"/>
                </a:solidFill>
                <a:latin typeface="Arial"/>
              </a:rPr>
              <a:t>– нарушение соотношений чувственного и понятийного в об-</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е в сторону преобладания последнего или полное отсутствие чувственных элементов в словесном описании объекта. Вербализм представлений хорошо иллюстрируется широким использованием незрячими описаний объектов, в которых фигурируют недоступные для осязательного восприятия признак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утем для преодоления вербализма представлений слепых и слабов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ящих является широкое использование наглядных пособий, приспособленных для осязательного и дефектного зрительного восприятия, воспитание культуры осязания, включение в познавательную деятельность всех сохранных анализаторов, воспитание  наблюдательност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971640" y="476280"/>
            <a:ext cx="703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Специфические особенности развития памяти лиц с нарушениями зрения</a:t>
            </a:r>
            <a:endParaRPr b="0" lang="en-US" sz="2400" spc="-1" strike="noStrike">
              <a:solidFill>
                <a:srgbClr val="ffffff"/>
              </a:solidFill>
              <a:latin typeface="Arial"/>
            </a:endParaRPr>
          </a:p>
        </p:txBody>
      </p:sp>
      <p:sp>
        <p:nvSpPr>
          <p:cNvPr id="146" name=""/>
          <p:cNvSpPr/>
          <p:nvPr/>
        </p:nvSpPr>
        <p:spPr>
          <a:xfrm>
            <a:off x="395280" y="1628640"/>
            <a:ext cx="8353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реди особенностей процесса запоминания слепых и слабовидящих школьников, кроме </a:t>
            </a:r>
            <a:r>
              <a:rPr b="0" i="1" lang="ru-RU" sz="1800" spc="-1" strike="noStrike">
                <a:solidFill>
                  <a:srgbClr val="ffffff"/>
                </a:solidFill>
                <a:latin typeface="Arial"/>
              </a:rPr>
              <a:t>уменьшения объема и скорости</a:t>
            </a:r>
            <a:r>
              <a:rPr b="0" lang="ru-RU" sz="1800" spc="-1" strike="noStrike">
                <a:solidFill>
                  <a:srgbClr val="ffffff"/>
                </a:solidFill>
                <a:latin typeface="Arial"/>
              </a:rPr>
              <a:t>, можно отметить </a:t>
            </a:r>
            <a:r>
              <a:rPr b="0" i="1" lang="ru-RU" sz="1800" spc="-1" strike="noStrike">
                <a:solidFill>
                  <a:srgbClr val="ffffff"/>
                </a:solidFill>
                <a:latin typeface="Arial"/>
              </a:rPr>
              <a:t>недостаточную осмысленность запоминаемого материала</a:t>
            </a:r>
            <a:r>
              <a:rPr b="0" lang="ru-RU" sz="1800" spc="-1" strike="noStrike">
                <a:solidFill>
                  <a:srgbClr val="ffffff"/>
                </a:solidFill>
                <a:latin typeface="Arial"/>
              </a:rPr>
              <a:t>. Недостатк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огической памяти связаны с дефектами восприятия и обусловленным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ледними некоторыми недостатками мышления (разрыв между понят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м и его конкретным содержанием, трудности, испытываемые слепыми 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абовидящими в мыслительных операциях анализа и синтеза, сравнен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лассификации и т.д.). Однако несмотря на недостаточный уровень разв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ия логической памяти запоминание материала, имеющего смысловые св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и, протекает у детей с нарушенными зрительными функциями успешне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жели материала, не связанного смысловыми отношениями (А.И. Зотов).</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 слепых и слабовидящих школьников наиболее продуктивно происхо-</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ит </a:t>
            </a:r>
            <a:r>
              <a:rPr b="0" i="1" lang="ru-RU" sz="1800" spc="-1" strike="noStrike">
                <a:solidFill>
                  <a:srgbClr val="ffffff"/>
                </a:solidFill>
                <a:latin typeface="Arial"/>
              </a:rPr>
              <a:t>запоминание начала материала</a:t>
            </a:r>
            <a:r>
              <a:rPr b="0" lang="ru-RU" sz="1800" spc="-1" strike="noStrike">
                <a:solidFill>
                  <a:srgbClr val="ffffff"/>
                </a:solidFill>
                <a:latin typeface="Arial"/>
              </a:rPr>
              <a:t>, что объясняется повышенной утомл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мостью детей с дефектами зре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395280" y="260280"/>
            <a:ext cx="82803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разы памяти слепых и слабовидящих при отсутствии подкреплений обнаруживают тенденцию к распаду. Даже небольшие промежутки времени отрицательно сказываются на их представлениях, что проявляется в резком снижении уровня дифференцированности, адекватности образ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эталонам (объектам восприят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ыстрое забывание усвоенного материала объясняется не только недостаточным количеством или отсутствием повторений, но и недостаточной значимостью объектов и обозначающих их понятий, о которых слепые могут получить только вербальное знание. Большое количество объектов и понятий, полных значимости и поэтому легко запоминающихся и длительно сохраняющихся в памяти у зрячих, для лиц с дефектами зрения теряют свое значение, что не способствует как запоминанию, так и длительному сохранению.</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rPr>
              <a:t>Особенности развития мышления у лиц с</a:t>
            </a:r>
            <a:br>
              <a:rPr sz="3200"/>
            </a:br>
            <a:r>
              <a:rPr b="1" lang="en-US" sz="3200" spc="-1" strike="noStrike">
                <a:solidFill>
                  <a:srgbClr val="e3e3ff"/>
                </a:solidFill>
                <a:latin typeface="Times New Roman"/>
              </a:rPr>
              <a:t>нарушениями зрения</a:t>
            </a:r>
            <a:endParaRPr b="0" lang="en-US" sz="3200" spc="-1" strike="noStrike">
              <a:solidFill>
                <a:srgbClr val="e3e3ff"/>
              </a:solidFill>
              <a:latin typeface="Arial"/>
            </a:endParaRPr>
          </a:p>
        </p:txBody>
      </p:sp>
      <p:sp>
        <p:nvSpPr>
          <p:cNvPr id="149" name="PlaceHolder 2"/>
          <p:cNvSpPr>
            <a:spLocks noGrp="1"/>
          </p:cNvSpPr>
          <p:nvPr>
            <p:ph/>
          </p:nvPr>
        </p:nvSpPr>
        <p:spPr>
          <a:xfrm>
            <a:off x="468360" y="1484280"/>
            <a:ext cx="8229600" cy="4495680"/>
          </a:xfrm>
          <a:prstGeom prst="rect">
            <a:avLst/>
          </a:prstGeom>
          <a:noFill/>
          <a:ln w="0">
            <a:noFill/>
          </a:ln>
        </p:spPr>
        <p:txBody>
          <a:bodyPr lIns="90000" rIns="90000" tIns="46800" bIns="46800" anchor="t">
            <a:normAutofit fontScale="90000"/>
          </a:bodyPr>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Г. Литвак и А.Ф. Самойлов отмечают три концепции развития мышления лиц с дефектами зрения:</a:t>
            </a:r>
            <a:endParaRPr b="0" lang="en-US" sz="2400" spc="-1" strike="noStrike">
              <a:solidFill>
                <a:srgbClr val="ffffff"/>
              </a:solidFill>
              <a:latin typeface="Arial"/>
            </a:endParaRPr>
          </a:p>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ория ускоренного развития мышления слепых и слабовидящих (С.Ф. Струве, А.М. Щербина, А.Р. Крогиус, К. Бюрклен, Б.И. Коваленко): потеря зрения способствует более раннему, быстрому, преимущественному развитию логического мышления у слепых по сравнению с нормально видящими;</a:t>
            </a:r>
            <a:endParaRPr b="0" lang="en-US" sz="2400" spc="-1" strike="noStrike">
              <a:solidFill>
                <a:srgbClr val="ffffff"/>
              </a:solidFill>
              <a:latin typeface="Arial"/>
            </a:endParaRPr>
          </a:p>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ория отрицательного влияния нарушения зрения (М.И. Земцова, Ф.Н. Шемякин): недостатки чувственного познания сказываются на мышлении и на образовании неточных обобщений и их формальных понятий,</a:t>
            </a:r>
            <a:endParaRPr b="0" lang="en-US" sz="2400" spc="-1" strike="noStrike">
              <a:solidFill>
                <a:srgbClr val="ffffff"/>
              </a:solidFill>
              <a:latin typeface="Arial"/>
            </a:endParaRPr>
          </a:p>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онцепция независимости развития мышления от дефектов зрения (А.И. Зотов и его школа): связывает уровень развития мыслительной деятельности слепых и слабовидящих с качеством программирования и управления процессом его формирова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24000" y="115920"/>
            <a:ext cx="8229600" cy="6337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Анализ и синтез</a:t>
            </a:r>
            <a:r>
              <a:rPr b="0" lang="ru-RU" sz="2800" spc="-1" strike="noStrike">
                <a:solidFill>
                  <a:srgbClr val="ffffff"/>
                </a:solidFill>
                <a:latin typeface="Arial"/>
              </a:rPr>
              <a:t>. Глубокие нарушения функций зрения, влекущие за собой затруднения в сфере восприятия, затрудняют операции анализа и синтеза отражаемых и являющихся объектом познания различных сторон действительности. Это объясняется, с одной стороны, недостаточно полным отражением свойств и признаков объектов, а с другой – относительной сукцессивностью осязательного и нарушенного зрительного восприятий, препятствующих формированию целостного образа, в результате чего страдают различение и дифференцировка. Эти же причины лежат в основе трудностей, испытываемых слепыми при вычленении наиболее существенных, характерных свойств и связей объектов позна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24000" y="188640"/>
            <a:ext cx="8640720" cy="6553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Сравнение</a:t>
            </a:r>
            <a:r>
              <a:rPr b="0" lang="en-US" sz="2800" spc="-1" strike="noStrike">
                <a:solidFill>
                  <a:srgbClr val="ffffff"/>
                </a:solidFill>
                <a:latin typeface="Arial"/>
              </a:rPr>
              <a:t>. В операции сравнения при наличии серьезных дефектов зрения также наблюдаются определенные затруднения, особенно на уровне чувственного познания. Невозможность или сложность получения ряда чувственных данных при полной или частичной утрате зрения препятствует тонкому различению и дифференцировке объектов, а следовательно, и их сравнению. Недостаточная глубина сравнения на чувственном уровне не может не отразиться на научно-теоретическом мышлении, так как при сравнении понятий необходима опора на их конкретное содержание, причем, чем сложнее мыслительная задача, тем более часто приходится опираться на конкретные, чувственные данны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68360" y="259920"/>
            <a:ext cx="8229600" cy="5761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Классификация.</a:t>
            </a:r>
            <a:r>
              <a:rPr b="0" lang="en-US" sz="2800" spc="-1" strike="noStrike">
                <a:solidFill>
                  <a:srgbClr val="ffffff"/>
                </a:solidFill>
                <a:latin typeface="Times New Roman"/>
              </a:rPr>
              <a:t> Часто наблюдающееся у слепых выделение несущественных или чрезмерно общих признаков препятствует правильной классификации и систематизации. Классифицируя понятия, дети с нарушениями зрения часто не могут выделить родовые признаки и дают неверные ответы. В овладении операциями классификации слабовидящих детей начальных классов отмечается больше затруднений; для них характерны трудности в образовании групп предметов, потеря единого основания при организации групп, переход к объединению по функциональному или внешнему признак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3e3ff"/>
                </a:solidFill>
                <a:latin typeface="Times New Roman"/>
              </a:rPr>
              <a:t>Развитие речи и неязыковых средств общения лиц с</a:t>
            </a:r>
            <a:br>
              <a:rPr sz="3600"/>
            </a:br>
            <a:r>
              <a:rPr b="1" i="1" lang="en-US" sz="3600" spc="-1" strike="noStrike">
                <a:solidFill>
                  <a:srgbClr val="e3e3ff"/>
                </a:solidFill>
                <a:latin typeface="Times New Roman"/>
              </a:rPr>
              <a:t>нарушениями зрения</a:t>
            </a:r>
            <a:endParaRPr b="0" lang="en-US" sz="36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звитие фонематического слуха и формирование речеслуховых представлений, основанные на слуховом восприятии, протекают у слепых и зрячих идентично, а формирование речедвигательных образов (артикуляция звуков речи), основанное в значительной мере на зрительном восприятии, существенно страдает, так как слепота полностью или частично нарушает</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посредственное подражани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620640"/>
            <a:ext cx="8064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 результате в содержании придуманных детьми рассказов мало своих собственных сюжетов. В основном в них представлены картины и отрывки из известных сказок и рассказов. Но и они характеризуются следующими особенностями:</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стереотипностью;</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малой вариативностью;</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отсутствием целостности;</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слабым проявлением эмоциональности, оригинальности и законченности повествований;</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трудностями подбора обобщающих слов к предложенным рядам объектов;</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снижением уровня выделения общих признаков предъявляемых групп и предметов</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228240"/>
            <a:ext cx="84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3e3ff"/>
                </a:solidFill>
                <a:latin typeface="Times New Roman"/>
              </a:rPr>
              <a:t>Проблемы социализации и интеграции лиц с</a:t>
            </a:r>
            <a:br>
              <a:rPr sz="3200"/>
            </a:br>
            <a:r>
              <a:rPr b="1" i="1" lang="en-US" sz="3200" spc="-1" strike="noStrike">
                <a:solidFill>
                  <a:srgbClr val="e3e3ff"/>
                </a:solidFill>
                <a:latin typeface="Times New Roman"/>
              </a:rPr>
              <a:t>нарушениями зрения</a:t>
            </a:r>
            <a:endParaRPr b="0" lang="en-US" sz="3200" spc="-1" strike="noStrike">
              <a:solidFill>
                <a:srgbClr val="e3e3ff"/>
              </a:solidFill>
              <a:latin typeface="Arial"/>
            </a:endParaRPr>
          </a:p>
        </p:txBody>
      </p:sp>
      <p:sp>
        <p:nvSpPr>
          <p:cNvPr id="157" name="PlaceHolder 2"/>
          <p:cNvSpPr>
            <a:spLocks noGrp="1"/>
          </p:cNvSpPr>
          <p:nvPr>
            <p:ph/>
          </p:nvPr>
        </p:nvSpPr>
        <p:spPr>
          <a:xfrm>
            <a:off x="457200" y="1483920"/>
            <a:ext cx="8229600" cy="475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реди причин, по которым слепые и слабовидящие дети хотели бы учиться в общеобразовательной школе, выделяют:</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желание быть с родителями и друзьями;</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сихологический комфорт;</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если бы хорошо видеть;</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если бы была меньше нагрузка;</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там лучше учителя;</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там больше порядк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900000" y="0"/>
            <a:ext cx="7488360" cy="740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Классификация лиц с нарушениями зрения в зависимости от способов восприятия и степени сохранности остаточного зрения:</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бсолютно (тотально) слепые, пользующиеся тактильно-слуховым способом восприятия (к ним также относятся лица, имеющие светоощущение).</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астично (парциально) видящие, имеющие в разной степени форменное зрение, но в связи с его неполноценностью пользующиеся зрительно-тактильно-слуховым способом восприятия. К ним относятся лица с остаточным зрением до 0,05 с коррекцией очками на лучше видящем глазу.</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лабовидящие, пользующиеся преимущественно зрительным способом восприятия действительности, с остротой центрального зрения от 0,2 и выше при глубоких изменениях других зрительных функц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611280" y="404640"/>
            <a:ext cx="80643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ричины, по которым учащиеся специальных школ не хотели бы учитьс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в общеобразовательной школе:</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насмешки детей;</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мне лучше в специальной школе;</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учусь последний год;</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в специальной школе меньше классы;</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в прежней школе изменился состав коллектива;</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ривык к специальной школе;</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другие личные причин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24000" y="189000"/>
            <a:ext cx="8424720" cy="6749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imes New Roman"/>
              </a:rPr>
              <a:t>Обучение детей с нарушением зрения в общеобразовательных учреждениях требует решения ряда проблем объективного и субъективного характера</a:t>
            </a:r>
            <a:r>
              <a:rPr b="0" lang="ru-RU" sz="2300" spc="-1" strike="noStrike">
                <a:solidFill>
                  <a:srgbClr val="ffffff"/>
                </a:solidFill>
                <a:latin typeface="Times New Roman"/>
              </a:rPr>
              <a:t>:</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Педагоги массовых учреждений должны получить минимум медицинских, психологических, методических знаний, а также сведений о специальной педагогике.</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Для организации интегрированного обучения необходима помощь тифлопедагога-консультанта.</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Необходимо целенаправленно формировать адекватное отношение к незрячим детям как со стороны педагогов, родителей, так и со стороны общественности.</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Дети с нарушением зрения, обучающиеся в общеобразовательных школах, должны быть обеспечены специальными учебниками и тифлопособиями.</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Педагогу по физической культуре необходимо знать допустимые нагрузки и противопоказания детей.</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Педагог должен уметь правильно интерпретировать заболевания ребенка, поощрять его доброжелательностью, милосердием т.д.</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1187280" y="333360"/>
            <a:ext cx="756144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Классификация лиц в зависимости от времени наступления дефект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2400" spc="-1" strike="noStrike">
                <a:solidFill>
                  <a:srgbClr val="ffffff"/>
                </a:solidFill>
                <a:latin typeface="Tahoma"/>
              </a:rPr>
              <a:t>слепорожденны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раноослепш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позднослепш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таточное зрение характеризуетс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еравнозначностью взаимодействия различных зрительных функций и несоответствием их параметр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еустойчивостью зрительных возможностей и снижением скорости и качества переработки информаци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ступлением быстрого утомления из-за снижения функциональных возможностей зре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84360" y="189000"/>
            <a:ext cx="77752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ричины возникновения нарушений зрени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Анализ причин слепоты и слабовидения показывают, что 92% слабовидения и 88% слепоты имеют врожденный характер, более 30% из них имеют наследственные формы (миопия, врожденная глаукома, атрофия зрительного нер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При этом четко прослеживается возрастание частоты врожденных аномалий развития органа зрения среди причин детской слепот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Врожденные заболевания и аномалии развития органа зрения могут быть следствием внешних и внутренних повреждающих факторо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В исследованиях Л.И.Кирилловой отмечаются наследственные нарушения обмена веществ в виде альбинизма; наследственные заболевания, приводящие к нарушению развития глазного яблока (врожденный анофтальм, микрофтальм); заболевания роговой оболочки (дистрофия роговицы); наследственная патология сосудистой оболочки (врожденные катаракты); отдельные формы патологии сетчатки, врожденная атрофи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роме наследственных факторов, у слепых и частично видящих детей имеются аномалии развития органа зрения в результате внешних и внутренних отрицательных факторов, действующих в период эмбрионального развития плода: патологическое течение беременности, перенесенные матерью вирусные заболевания, недоношенность, иммунологический конфликт между кровью матери и плода по резус-антигену, родовые травмы и т.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547920" y="260280"/>
            <a:ext cx="82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собенности зрительных ощущений частичнозрячих и слабовидящих</a:t>
            </a:r>
            <a:endParaRPr b="0" lang="en-US" sz="1800" spc="-1" strike="noStrike">
              <a:solidFill>
                <a:srgbClr val="ffffff"/>
              </a:solidFill>
              <a:latin typeface="Arial"/>
            </a:endParaRPr>
          </a:p>
        </p:txBody>
      </p:sp>
      <p:sp>
        <p:nvSpPr>
          <p:cNvPr id="129" name=""/>
          <p:cNvSpPr/>
          <p:nvPr/>
        </p:nvSpPr>
        <p:spPr>
          <a:xfrm>
            <a:off x="468360" y="692280"/>
            <a:ext cx="7848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Под остротой зрения </a:t>
            </a:r>
            <a:r>
              <a:rPr b="0" lang="ru-RU" sz="2000" spc="-1" strike="noStrike">
                <a:solidFill>
                  <a:srgbClr val="ffffff"/>
                </a:solidFill>
                <a:latin typeface="Times New Roman"/>
              </a:rPr>
              <a:t>понимается способность глаза различать две светящиеся точки на минимальном расстоянии. Снижение остроты зрения проявляется в необходимости увеличения угла зрения, при котором можно различать детали или контуры объекта, по сравнению с нормой. Угол зрения есть отношение какой-либо величины к расстоянию между объектом и глазом. Снижение остроты зрения требует увеличения, по сравнению с нормой, угла зрения для отчетливого видения, т.е. либо сокращения расстояния между глазом и объектом, либо увеличения самого объект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 снижении остроты зрения ниже 0,005 раздельное видение двух светящихся точек становится невозможным независимо от величины угла зрения. Зрение таких лиц не вычленяет пространственных отношений (величины, формы и удаленности объектов) и характеризуется лишь светоощущением. Острота зрения не является величиной постоянной. Она может изменяться как в сторону повышения, так и понижения. Тенденция к повышению остроты зрения особенно ярко выражена у слабовидящих, в значительно большей мере пользующихся зрением, чем частичнозрячи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84360" y="476280"/>
            <a:ext cx="7991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Под полем зрения </a:t>
            </a:r>
            <a:r>
              <a:rPr b="0" lang="en-US" sz="2400" spc="-1" strike="noStrike">
                <a:solidFill>
                  <a:srgbClr val="ffffff"/>
                </a:solidFill>
                <a:latin typeface="Times New Roman"/>
              </a:rPr>
              <a:t>подразумевается пространство, все точки которог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идны одновременно при неподвижном взгляде. Наиболее типичными являются следующие формы нарушений поля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концентрическое, идущее от периферии по всем направлениям к центру сужение поля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ыпадение отдельных участков внутри поля зрения (центральные скотом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ыпадение половины поля зрения (гемианопси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Патологические изменения поля зрения ведут к нарушению зрительного отражения пространства, которое, в зависимости от характера изменения, либо сужается (при концентрическом сужении и гемианопсии), либо деформируется (при скотома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324000" y="333360"/>
            <a:ext cx="8208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есьма важной функцией зрения является также </a:t>
            </a:r>
            <a:r>
              <a:rPr b="0" i="1" lang="ru-RU" sz="2400" spc="-1" strike="noStrike">
                <a:solidFill>
                  <a:srgbClr val="ffffff"/>
                </a:solidFill>
                <a:latin typeface="Times New Roman"/>
              </a:rPr>
              <a:t>цветоразличение ил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хроматическое зрение</a:t>
            </a:r>
            <a:r>
              <a:rPr b="0" lang="ru-RU" sz="2400" spc="-1" strike="noStrike">
                <a:solidFill>
                  <a:srgbClr val="ffffff"/>
                </a:solidFill>
                <a:latin typeface="Times New Roman"/>
              </a:rPr>
              <a:t>, развившееся в результате приспособления глаза к действию солнечного света. Нормальное цветоразличение (трихромазия) способствует не только наиболее полному и точному отражению действительности, но и играет большую роль в создании эмоционального тона зрительных ощущений. Патология цветного зрения проявляется в форме цветослабости и цветослепоты. Цветослабость и цветослепота имеют, как правило, избирательный характер. Полная цветослепота (ахромазия) наблюдается чрезвычайно редко. Наиболее распространен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ротоаномалия</a:t>
            </a:r>
            <a:r>
              <a:rPr b="0" lang="ru-RU" sz="2400" spc="-1" strike="noStrike">
                <a:solidFill>
                  <a:srgbClr val="ffffff"/>
                </a:solidFill>
                <a:latin typeface="Times New Roman"/>
              </a:rPr>
              <a:t> – нарушение цветоощущения на красный цвет;</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дейтероаномалия </a:t>
            </a:r>
            <a:r>
              <a:rPr b="0" lang="ru-RU" sz="2400" spc="-1" strike="noStrike">
                <a:solidFill>
                  <a:srgbClr val="ffffff"/>
                </a:solidFill>
                <a:latin typeface="Times New Roman"/>
              </a:rPr>
              <a:t>– нарушение цветоощущения на зеленый цве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395280" y="361800"/>
            <a:ext cx="8280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ажной функцией зрительного анализатора является </a:t>
            </a:r>
            <a:r>
              <a:rPr b="0" i="1" lang="ru-RU" sz="2400" spc="-1" strike="noStrike">
                <a:solidFill>
                  <a:srgbClr val="ffffff"/>
                </a:solidFill>
                <a:latin typeface="Times New Roman"/>
              </a:rPr>
              <a:t>светоразличение</a:t>
            </a:r>
            <a:r>
              <a:rPr b="0" lang="ru-RU"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существляющееся благодаря наличию световой чувствительности. Измерения световой чувствительности слабовидящих показали снижение этог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ида чувствительности у большинства испытуемых (75%), а также отсутствие прямой зависимости нарушений световой чувствительности от остроты зрения, хотя наиболее значительные снижения чувствительности к</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вету наблюдаются при наиболее сильных снижениях остроты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вышение световой чувствительности в процессе адаптации к темноте при разных заболеваниях протекает различно, и наиболее быстрое снижение порогов наблюдается при альбинизме и близоруком астигматизме</a:t>
            </a:r>
            <a:r>
              <a:rPr b="0" lang="ru-RU"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1T14:32:16Z</dcterms:created>
  <dc:creator>1</dc:creator>
  <dc:description/>
  <dc:language>en-US</dc:language>
  <cp:lastModifiedBy>1</cp:lastModifiedBy>
  <dcterms:modified xsi:type="dcterms:W3CDTF">2011-10-12T14:22:52Z</dcterms:modified>
  <cp:revision>3</cp:revision>
  <dc:subject/>
  <dc:title>ПСИХОЛОГО-ПЕДАГОГИЧЕСКАЯ ХАРАКТЕРИСТИКА ДЕТЕЙ СНАРУШЕНИЕМ ЗРЕНИЯ </dc:title>
</cp:coreProperties>
</file>